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8F49-5677-4616-A52C-981F8F7C6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C7804B-54D2-447A-8E4B-9D58C5FD5AB9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68487-637B-497B-A62C-666D0FC67C4D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727BC-9B98-4743-8CD2-2BC253A101DE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834BF-C862-4BE9-9E86-3AFA7FAC3CBC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722F6-7DD1-4675-AFE7-BAD99AE02100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DEDB4-7EBB-4397-BAB4-CBF3C2A03876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chemistry.about.com/b/2010/11/09/osmotic-pressure-and-tonicity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esu7.org/~lweb/Lakeview/science/sea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14E33-2513-49B1-B8EA-A81E90B7247D}" type="datetime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. Podgorski, Biol. 1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F9304-CAC2-4D61-9C4E-08F15C0D8509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thebasisoflife.wikispaces.com/Membrane+Structure+and+Function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zumogor.mine.nu/blog/view-atp%20orar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kentsimmons.uwinnipeg.ca/cm1504/membranefunction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library.thinkquest.org/C004535/molecule_transport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arditobook.pbworks.com/w/page/11348839/Diffusion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facilitated-diffusion-active-transport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BC4D-5EFE-4927-A34A-4FDA0AD6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956-CE51-4D13-900E-85CCB84E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E36E-42B8-4E97-8AD1-B2985E80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D591-FA50-4495-935A-F1090111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6776-59C1-464E-89DC-8A2EC472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C55E-A992-4034-92E1-503610C2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ABE4-3C31-4A62-9586-636815B2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5F73-EB10-4688-A646-D5E24F6D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64F-DC63-4CC2-901E-083FB04D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2941-39B7-4A6C-85BA-50F2C80C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36B1-633C-4017-9914-B49C8DAB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D2E-70AD-406E-B22F-7CC6C422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96B8-6A72-4495-93C8-2042BD40F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Across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14 &amp; 1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diffusion of water molecules across a selectively permeable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8320" y="2620800"/>
            <a:ext cx="380988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moves form an area of low solute concentration to an area of high solute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ing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oton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utions have equal solute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ton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h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g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ute concentration than another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oton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ution h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ute concentration than another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703F-8347-4328-B765-A9840C7F602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ll in Isotonic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1219320" y="1447920"/>
            <a:ext cx="5790960" cy="403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6"/>
          <p:cNvSpPr/>
          <p:nvPr/>
        </p:nvSpPr>
        <p:spPr>
          <a:xfrm>
            <a:off x="2590920" y="2590920"/>
            <a:ext cx="304776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809880" y="4114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342900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523880" y="1600200"/>
            <a:ext cx="2133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% NaC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90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276720" y="3809880"/>
            <a:ext cx="182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%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90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914400" y="55627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at is the direction of water mov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4"/>
          <p:cNvSpPr/>
          <p:nvPr/>
        </p:nvSpPr>
        <p:spPr>
          <a:xfrm>
            <a:off x="5334120" y="3657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H="1">
            <a:off x="5257440" y="3886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1066680" y="61722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114300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cell is at 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335268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3581280" y="60199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4038480" y="1752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662940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NET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54E3-F5CE-4709-A93F-0FD17351D7E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ll in Hypotonic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295280" y="1523880"/>
            <a:ext cx="5791320" cy="403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2590920" y="2590920"/>
            <a:ext cx="304776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809880" y="4114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42900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523880" y="1828800"/>
            <a:ext cx="2133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0% NaC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90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276720" y="3809880"/>
            <a:ext cx="182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%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80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1066680" y="586728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at is the direction of water mov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H="1">
            <a:off x="5257440" y="3886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1066680" y="61722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335268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43CB-7B84-4145-8A4F-61DB87B3402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ll in Hypertonic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95280" y="1523880"/>
            <a:ext cx="5791320" cy="403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"/>
          <p:cNvSpPr/>
          <p:nvPr/>
        </p:nvSpPr>
        <p:spPr>
          <a:xfrm>
            <a:off x="2590920" y="2590920"/>
            <a:ext cx="304776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809880" y="4114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42900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523880" y="1828800"/>
            <a:ext cx="2133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% NaC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85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276720" y="3809880"/>
            <a:ext cx="182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%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95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914400" y="55627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at is the direction of water mov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5334120" y="3657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1066680" y="61722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35268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37339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s and Ton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2003400"/>
            <a:ext cx="777240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2374920"/>
            <a:ext cx="77724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EA42-5215-49E0-A3A0-1B970B0B9A9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47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611280" y="27432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506760" y="27432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er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783120" y="26668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o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4960" y="541008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er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887640" y="54100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o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554880" y="54864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pyright cmasseng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 &amp; Bulk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Across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vely perme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means that only certain substances can pass throug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7040" y="1981080"/>
            <a:ext cx="574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move substanc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ncentration gradient, energy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called adenosine triphosphate (ATP) provides the energy for this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5680" y="1981080"/>
            <a:ext cx="609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movement of substances through a membrane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ncentration gradient, using membrane-bound carrier proteins and energy from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k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requires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responsible for moving large quantities of materials across the 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y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sed to bring large amounts of substanc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agocyt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ves solids into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nocyt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ves liquids into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y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09680" y="1701720"/>
            <a:ext cx="45849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cy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sed to take large amounts of substanc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ut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cy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49400" y="1981080"/>
            <a:ext cx="5243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23302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s #10, 11, 12, and 15 taken from Powerpoint presentations created by Cheryl Massengale, educator extraordinaire &amp; creator of http://www.biologyjunction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passes thr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, uncharged substances such as water, oxygen, and 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lipid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needs hel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es with positive or negative charges (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ive 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the movement of particles from an area where they are highly concentrated, to an area where they are less highly concentrated (dow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ntration grad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ive 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no energy, and continues until equilibrium is re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2824200"/>
            <a:ext cx="380988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passive diffusion through a membrane, assisted by carrier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, sodium ions, and chloride ions all move across cell membranes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2960" y="609480"/>
            <a:ext cx="7316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brane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embrane proteins span the entire thickness of the 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ct as carrier proteins (they assist substances to move throu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17:08:18Z</dcterms:created>
  <dc:creator>rubina khan</dc:creator>
  <dc:description/>
  <dc:language>en-US</dc:language>
  <cp:lastModifiedBy>rubina khan</cp:lastModifiedBy>
  <dcterms:modified xsi:type="dcterms:W3CDTF">2012-10-09T15:36:26Z</dcterms:modified>
  <cp:revision>227</cp:revision>
  <dc:subject/>
  <dc:title>PowerPoint Presentation</dc:title>
</cp:coreProperties>
</file>